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D1E0C-A5AC-41F2-AF30-04E5A21B8C29}" type="slidenum"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DC9E0F-D62C-4D97-80A9-23F5497B8DC4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893928-C9FF-47FF-9BD7-ED9F414F8D1D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896A87-EF3C-4A78-A54F-2816D4F5AC6D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0477BE-6313-4F09-8B88-3E0306AACBCF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4E689A-9F18-4A76-9164-16ABC48FF29B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A3325C-A13B-40E5-9D0F-6C2F3DCE0B05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52DF37-A79A-49A4-BF0F-D4FDF84BED3C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87EAF8-397D-408D-A113-D403306EAB0F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C4647A-4797-435A-AEE4-3505358CEABC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8C4C71-485B-471B-8ACA-ADB77A7C6BDF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9E3BAE-C377-4149-91BF-7E0552AFA880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43389B-1247-408E-8EBC-2C9673C265D8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C526-091E-4488-A1CE-FEAF20078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454F-5F6B-4E8F-AC1F-AC1E5C02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9EF-852A-41A5-B794-84E81784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1BCC-9B58-461B-AAE6-696246AB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A13D-AD2E-475D-9C5C-B32D0BD5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0B7A-83EA-476D-A185-E22A482E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B4B5-5413-45C1-9372-A7F50984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D805-1948-4D33-ADDA-C452908F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1C65-2FB5-4769-9B89-9B39CD75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46B2-3EC5-4B55-B64C-F384680A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1CCD-34A6-411F-BE8C-FBE6EAA9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F048-16A0-437A-A32C-3C983420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82B5-D57F-4A17-A8BB-6336C777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E811-23C6-4D22-B9A3-525E8193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5190-1723-41FD-A5C8-027E08E5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C913-D6AA-41FF-A640-AF0DCF1B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4372-BECF-424C-A3E4-10CC97BB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EF95F-00E2-42B6-9D90-757D8A85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3BA76-7C1D-4E45-A314-16BE23BA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48B2A-0D0C-45D6-9597-007CCD27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04EFA-900C-43A8-B3CC-149DE977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A2EB2-2549-46E6-AA5A-E73A780D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A45B-5E62-4D3E-81E4-C666E92F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70138-4B24-429D-B9EA-DBCFA146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5570-04C6-4C51-A146-EF5220AA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97B14-1039-4B42-80F6-09E0E6A4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98697-5BA6-4910-8971-14B1BB71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B4645-DF40-4A73-9F0B-12531DBF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CDE7E-1E28-4758-8427-B839F74C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AF885-AF7D-4818-AD46-14BCDEC7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B06-D6AE-42D2-AC6D-29E77C2B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AD3-EAE4-425B-83AD-187B7EAD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DEF6-FDF7-4D9E-AE07-D2478E5F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402-B217-4E71-AEC2-D0A1CDCD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F6E-EAA1-4A34-9586-E1C5E8B7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8D94-8F98-45BD-BB94-30A48A7D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/07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4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1C959C-A3C4-4511-8C02-FAB81D24EC17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205080" y="765000"/>
            <a:ext cx="4114800" cy="31244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413080" y="0"/>
            <a:ext cx="309420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CEF3806-5AE8-48EC-B1DB-5DAF13583B9F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3222720" y="304920"/>
            <a:ext cx="11908080" cy="4722840"/>
            <a:chOff x="-3222720" y="304920"/>
            <a:chExt cx="11908080" cy="4722840"/>
          </a:xfrm>
        </p:grpSpPr>
        <p:sp>
          <p:nvSpPr>
            <p:cNvPr id="93" name=""/>
            <p:cNvSpPr/>
            <p:nvPr/>
          </p:nvSpPr>
          <p:spPr>
            <a:xfrm>
              <a:off x="1447920" y="2514600"/>
              <a:ext cx="723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2514600" y="1371600"/>
              <a:ext cx="3656160" cy="36561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3222720" y="304920"/>
              <a:ext cx="4037040" cy="4037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2880" y="985320"/>
            <a:ext cx="723744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C9D88E8-575F-4A85-B520-60BD06C90725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125360"/>
            <a:ext cx="7345440" cy="342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OŚWIADCZENIE DECENTRALIZA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RAN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tąpienie p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Jean-Benoît ALBERTINI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yrektor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stępcy Pełnomocnika Międzyresortowego do spraw Zagospodarowania Przestrzennego Kraju i Konkurencyjnoś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awni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DAT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5516640"/>
            <a:ext cx="42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Seminarium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KS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Warszaw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- 12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grudni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1584000" cy="576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B11E-02C1-449F-BBE7-1AFCC4D69BF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1280" y="692280"/>
            <a:ext cx="82296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posiada też swojeg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region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y jest mianowanym przez rząd przedstawicielem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 on rolę administracyj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ą i polityczną w ramach regionu. Ma w tym celu do dyspozycji sekretarza generalnego do spraw regionalnych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(SGAR)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ieruje zdekoncentrowanymi służbami państw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alizuje politykę rządu w odniesieniu do wielkich projek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uje legalność i przestrzeganie reguł budżetow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konywanych na szczeblu regionu zadań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pracowu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rzedstawiając informacje i propozyc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lityki w dziedzinie rozwoju gospodarczo-społecznego ora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Animuje i koordynuje działania prefektów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0075-4C50-4EC8-8102-E39577C3441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4360" y="47628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dzieli się n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6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ów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2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na terenie metropoli 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4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y zamorski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skład regionu wchodzi kilka departamen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zarządzany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regionalną,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bieraną na okres sześciu lat w wyborach bezpośrednich i powszech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ą one rolę koordynacyjno-planistycz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dzięki pewnej liczbie kompetencj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w dziedzinie 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trzymują część podatków krajowych i dysponują budżetem, który obdzielają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óżne dziedz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z tych regionów zamorskich takich jak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wadelup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ujana Francusk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artynika i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éunion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jest jednocześnie zamorskim departamente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 ta mogłaby zniknąć w przypadku fuzji zgromadzeń regionalnych i departament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6F68-AFB3-41C8-8107-09860372BC4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-108000" y="765000"/>
            <a:ext cx="8242200" cy="4589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56360" y="157644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1844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0000" y="16714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15DB-DF3B-43DB-947D-FBDE316FFEE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8920" y="549360"/>
            <a:ext cx="87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departament posiad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departament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la jego polega 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 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czuwaniu nad utrzymaniem porządku publicznego i bezpieczeństwa osób i dóbr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eniu możliwości sprawowania praw i swobód obywatelsk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aniu zdrowej sytuacji w dziedzinie ochrony środowiska oraz poszanowania dziedzictwa kulturalnego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i legalności działań samorządów lok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drażaniu i koordynacji polityk krajowych lub wspólnotowych na szczeblu lokalny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 przewodniczy kolegium naczelników wydziałów, w skład którego wchodzą prefekt, podprefekci i naczelnicy wydziałów poszczególnych instancji administracyj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ojekty budżetów zdekoncentrowanych służb administracyjnych przedkładane są prefekt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15236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0F6C-0C8A-44B7-9573-B9E7545918B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1484280"/>
            <a:ext cx="78483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składa się z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plus 4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y zamorski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 zarządzany jest przez radę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eneralną wybieraną na okres sześciu lat w bezpośrednich wyborach powszech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mpetencje 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koncentrowane na poziomie bardziej lokaln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nkurują częstokroć z kompetencjami reg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ziałania socjaln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rogownictw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edukacj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 i dziedzictwo naro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lokaln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transport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lnictwo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26684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FB7C-6984-4AB7-ACE3-9D3FEBFBCC1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50920" cy="388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720" y="901800"/>
            <a:ext cx="8242560" cy="459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74BD-B5CF-4229-ACCB-52FFE0741B6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476280"/>
            <a:ext cx="82296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Terytorium Francji składa się 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36 783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których każda odpowiada na ogół terytorialnie obszarowi miasta lub wiosk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zarządzana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miejsk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ej członkowie wybierani są na sześć lat w bezpośrednich powszechnych wybora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miejsca wybiera ze swego skład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era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- będącego przedstawicielem państwa, który obarczony jest zadaniem przestrzegania decyzji rady -  jego zastępców, którym można delegować pewne zadani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Ludność gminy określa liczbę radnych miejskich, maksimu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dysponuje budżetem składającym się zasadniczo z transferów ze strony państwa oraz lokalnych podatków bezpośredn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zarządza sprawami gm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dejmuje decyzje dotyczące zarządzania gmi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wyjątkiem sytuacji, kiedy mocą jakiegoś tekstu obowiązek ten obarcza Mera lub też władzę administracyjną innego rodz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przyjmuje wreszcie lokalny plan urbanistycz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3364-0E05-4044-A360-2B49CFCA92C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42200" cy="5132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29200" y="471492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92360" y="2080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spółpraca międzygmin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25B3-32F0-43D4-90CE-188C9887991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71280" y="7128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42AA-2FCE-460C-B228-F065E1511E1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00000" y="1197000"/>
            <a:ext cx="806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Celem jest tutaj usprawnienie współpracy pomiędzy gminami, które mają wspólne interesy. Istnieje kilka rodzajów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kładów publicznych współpracy międzygminnej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(EPCI)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oraz kilka poziomów współprac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styczni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008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91,7%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we Francji metropolitalnej było zrzeszonych w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 583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ch międzygmin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 obszarze terytoriów zamor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ędzygminnych struktur zrzes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76,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i regionów zamorskich. Istniej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 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08108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90CB-BA1A-4311-9537-45CBF7A0D91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47640" y="206064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429264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Temat podlegający ciągłym zmianom od 25 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DE82-AFDA-4567-AC39-5852A6D5F88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1280" y="549360"/>
            <a:ext cx="83516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4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miej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jwyższy stopień współpracy międzygmin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otyczą one jednostek obejmujących pon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z przynajmniej jednym miastem licząc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posiadają szeroki zakres kompeten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(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gospodarc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rządzanie transporte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urbanistyk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wod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odpadam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t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69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Jednostki te liczą co 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są zorganizowane wokół ośrodka liczącego przy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osiadają więc one mniej kompetencji o charakterze obowiązkow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2400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bez minimalnego progu liczby 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ch kompetencje obowiązkowe mają jeszcze węższy charakter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ystępują również innego rodzaju struktury międzygminne, jak na przykł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355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ra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przypadku chodzi o obszary, które cechuje spójność geograficz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lna lub społeczna.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adni i podmioty gospodarcze jednoczą tu swe wysiłki w celu realizacji lokalnych projek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6800">
              <a:lnSpc>
                <a:spcPct val="100000"/>
              </a:lnSpc>
              <a:tabLst>
                <a:tab algn="l" pos="0"/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9036-8482-44BE-852B-53C3DE40C99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041920" y="403200"/>
            <a:ext cx="57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ozwój zintegrowanych związków międzygminn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1197000"/>
          <a:ext cx="7345080" cy="5316120"/>
        </p:xfrm>
        <a:graphic>
          <a:graphicData uri="http://schemas.openxmlformats.org/drawingml/2006/table">
            <a:tbl>
              <a:tblPr/>
              <a:tblGrid>
                <a:gridCol w="1945080"/>
                <a:gridCol w="1282680"/>
                <a:gridCol w="1338840"/>
                <a:gridCol w="1175040"/>
                <a:gridCol w="16034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8724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zeszenia posiadające własny ustrój podatkow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7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 36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 52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63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tym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DOM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. zamorskich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7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 760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 9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2 31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909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1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2,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56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eń działających na zasadzie </a:t>
                      </a: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PU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jedn. stawka od dział. zaw.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4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 1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656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6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 14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4 38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22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,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5AA0-B69B-49A4-907E-17F988A0384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3 – </a:t>
            </a:r>
            <a:r>
              <a:rPr b="1" lang="pl-PL" sz="2400" spc="-1" strike="noStrike">
                <a:solidFill>
                  <a:srgbClr val="009900"/>
                </a:solidFill>
                <a:latin typeface="Arial"/>
              </a:rPr>
              <a:t>Gospodarcze i finansowe znaczenie decentralizacj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3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udżety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owa budżetu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388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€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K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Inwestycje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56,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2,5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kraju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7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administracji publicz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Urzędnicy i pracownicy samorząd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1,8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 osób na dzień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31/12/0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całości pracowników publicz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5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E : 2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a osób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H : 1, 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 osó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D7B0-2888-40C7-88B6-AA42FB4EC0E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993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3160" indent="-8316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ozchody samorządów lokalnych w roku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 2007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7% DRF (140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27% DRI (56,6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4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datków osobowych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2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3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 tytułu transferów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8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Regio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4,4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11,7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partament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61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30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ktor gminny i międzygmin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: 122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58,6%) (89,8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gmin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32,5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r. międzygminn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049400" cy="38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FE82-0CD7-43B2-B92A-387823F39CD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125360"/>
            <a:ext cx="734364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Przychody samorządów lokalnych w roku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Verdana"/>
              </a:rPr>
              <a:t> 2007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: 207,8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l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81% RRF (169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% RRI (20,5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,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owych pożyczek, al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3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wrot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94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atków i opłat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58% RR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4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32% RRF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41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ubwencji państwow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E94C-F185-4FBF-9C1F-D5E0EF21169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41050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4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Lokalny system podatkowy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82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ezpośrednie podatki lokalne składają się głównie z 4 rodzajów opł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gruntow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0,8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1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TP : 29,1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44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od nieruchomości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20,4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31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mieszkaln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15,2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23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B :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Najważniejszym podatnikiem na szczeblu lokalnym jest państw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ulg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mniejszenie wymiaru należnego podatku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  nie mające wpływu na podstawę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rekompens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ejmowanie strat bazowych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008 : DCTP 11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soit 37,5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; 4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tytuł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TH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czyli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7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26648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562E-8EC7-4291-98B3-5ADDC422680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9074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5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Stosunki finansowe pomiędzy państwem i samorządam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93680" y="1699920"/>
            <a:ext cx="8050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d roku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1996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rzewidywalność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=&gt;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Pakt stabilności finansowej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acja inflacji w skali trzyletni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999-2007 :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a wzrostu i solidar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a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 +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snąca część PKB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-1 (1999 : 20%, 2000 : 25%; 2001-2007: 33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 2008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stanowien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y stabil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ej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1,6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I 2009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ielkość transferów państwowych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55,1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 roku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8)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zwiększa się w sposób normowany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: +2% (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flacji w okres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9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1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4EA5-05D1-43FB-84EE-63A69A4C59C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54936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6 –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odział kompete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1341360"/>
            <a:ext cx="7956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miana teoretycznych odniesień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auzula kompetencji ogóln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loki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ek przewodnich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7FED-0CF6-4E8B-A61F-993242B0776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81080" cy="360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16000" y="692280"/>
            <a:ext cx="46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elkie dziedziny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1413000"/>
          <a:ext cx="8283240" cy="3969720"/>
        </p:xfrm>
        <a:graphic>
          <a:graphicData uri="http://schemas.openxmlformats.org/drawingml/2006/table">
            <a:tbl>
              <a:tblPr/>
              <a:tblGrid>
                <a:gridCol w="1296720"/>
                <a:gridCol w="1224360"/>
                <a:gridCol w="2948760"/>
                <a:gridCol w="2813400"/>
              </a:tblGrid>
              <a:tr h="5616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istyka i transp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lokalnych planów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banis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cznych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schematów spójności terytoria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da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zwoleń na budowę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ortów jachtowy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ich wniosek, złożony do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jakimkolwi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rzekazywanych im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ów handlowych i ryba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żeli wyrażą takie życzenie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ami cywi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cz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i wyposażenie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zkół publi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definiowaniu karty szko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tworze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pięcioletniego ekspery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kalnych publicznych placówek szkolnictwa podstaw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dla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znaw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y po uzyskaniu akceptacji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stanawiania jednostek informacji turysty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4A0C-688A-49FE-BA68-1537F69168E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539640" y="1413000"/>
          <a:ext cx="8426160" cy="3514320"/>
        </p:xfrm>
        <a:graphic>
          <a:graphicData uri="http://schemas.openxmlformats.org/drawingml/2006/table">
            <a:tbl>
              <a:tblPr/>
              <a:tblGrid>
                <a:gridCol w="1295640"/>
                <a:gridCol w="1152720"/>
                <a:gridCol w="3115080"/>
                <a:gridCol w="2862720"/>
              </a:tblGrid>
              <a:tr h="1326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lokalnego programu w sferz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delegowania na rzecz mera lub prezes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PCI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a kontyngentem prefektury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czestniczenia w budow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u i wyposaż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ów studen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alczanie szkodliwych warunków zamieszkiwania - eksperymental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w dziedzinie zdrowia i sferze socjalnej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komplementarne w stosunku do działań departa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gminnymi ośrodkami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CCAS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życzalnie książek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jskie konserwatoria i muze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początkowego nauczania artystycz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gą stawać się właścicielami sklasyfikowanych lub zewidencjonowanych zabytków historycznych należących do państwa lub też do Krajowego Centrum Zabytków History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02B3-4B61-4454-8247-2EED5D2FCD0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1341360"/>
            <a:ext cx="845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900" spc="-1" strike="noStrike">
                <a:solidFill>
                  <a:srgbClr val="009900"/>
                </a:solidFill>
                <a:latin typeface="Arial"/>
              </a:rPr>
              <a:t>1.</a:t>
            </a: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900" spc="-1" strike="noStrike" u="sng">
                <a:solidFill>
                  <a:srgbClr val="009900"/>
                </a:solidFill>
                <a:uFillTx/>
                <a:latin typeface="Arial"/>
              </a:rPr>
              <a:t>Społeczno-polityczny oraz instytucjonalny kontekst decentralizacj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198900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060640"/>
            <a:ext cx="7993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Francuskie instytu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nitarne trady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ładza państwowa i konsensus społecz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rganizacja zdecentralizowan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wolucja ujęta w odpowiednie ra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781360"/>
            <a:ext cx="79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7BB9-51AD-4A74-8E37-EC81702B309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95280" y="1341360"/>
          <a:ext cx="8570520" cy="3541320"/>
        </p:xfrm>
        <a:graphic>
          <a:graphicData uri="http://schemas.openxmlformats.org/drawingml/2006/table">
            <a:tbl>
              <a:tblPr/>
              <a:tblGrid>
                <a:gridCol w="1297080"/>
                <a:gridCol w="1224360"/>
                <a:gridCol w="3389400"/>
                <a:gridCol w="2659680"/>
              </a:tblGrid>
              <a:tr h="4464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socjalne, solidarność, 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zastrzeżeniem sytuacji wyjątkowych odpowiada całościowo za świadczenia z tytułu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y społe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społeczna na rzecz dziec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dla osób niepełnospraw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cja społeczno-zawo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RMI-RMA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)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na rzecz osób starsz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a zdrowia rodziny i dzieck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uje i wdraża politykę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eksperymentalne na teranie niektórych departamentów o poszerzonych kompetencjach w dziedzi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y sądowej młodzież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, infrastruk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oraz inwestycje w sferz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ogownictwa departament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niemiejskiego drogowego przewozu osób 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u szko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a obszarem miast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 i wyposaż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skich portów handlowych i rybacki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zarządzanie nim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programu wspiera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ktury obszarów wiej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ęścią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oł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 000 km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óg kraj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terytorium kra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4C40-B5D9-407E-B457-AE5989B4F96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979640" y="1197000"/>
          <a:ext cx="6914880" cy="3673080"/>
        </p:xfrm>
        <a:graphic>
          <a:graphicData uri="http://schemas.openxmlformats.org/drawingml/2006/table">
            <a:tbl>
              <a:tblPr/>
              <a:tblGrid>
                <a:gridCol w="1128600"/>
                <a:gridCol w="3342960"/>
                <a:gridCol w="2443320"/>
              </a:tblGrid>
              <a:tr h="19454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ctw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ich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centralne wypożyczalnie książ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hiwa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muzeami departamenta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nabór 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 kadrą techniczną, robotnikami i pracownikami usługowymi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6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na rzecz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dziel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owych po uzyskaniu akceptacji ze strony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9640" y="1197000"/>
          <a:ext cx="1441080" cy="3673080"/>
        </p:xfrm>
        <a:graphic>
          <a:graphicData uri="http://schemas.openxmlformats.org/drawingml/2006/table">
            <a:tbl>
              <a:tblPr/>
              <a:tblGrid>
                <a:gridCol w="1441080"/>
              </a:tblGrid>
              <a:tr h="34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a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75D6-7125-4911-865B-0B0FB465C00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755640" y="907920"/>
          <a:ext cx="7994160" cy="4627440"/>
        </p:xfrm>
        <a:graphic>
          <a:graphicData uri="http://schemas.openxmlformats.org/drawingml/2006/table">
            <a:tbl>
              <a:tblPr/>
              <a:tblGrid>
                <a:gridCol w="1008000"/>
                <a:gridCol w="1729080"/>
                <a:gridCol w="2659680"/>
                <a:gridCol w="2597400"/>
              </a:tblGrid>
              <a:tr h="62892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zwój gospodarcz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na, gdzie region odgrywa rolę koordynato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reśla system pomocy bezpośrednich i je przyznaj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 premie za zatrudni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orzenie przedsiębiorstw jak też pożyczki i zaliczki na zasadach preferencyjnych stóp procent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drażanie i przyznawanie pomocy o charakterze pośredni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warancje dla przedsiębiorstw zaciągających pożyczk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olnienie z podatku od działalności zawodow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a regionalna określ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pomocy gospodarczej dla przedsiębiorstw i decyduje o jej przyzna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rozwoju gospodarcz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eksperymentalnym na lat pię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 i planow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wypracowywaniu krajowej polityki w dziedzinie zagospodarowania przestrzennego i trwałego rozwo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ieranie umów planu wiążących państwo i region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rok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7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mowy projektow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schematu przewoz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w dziedzinie infrastruktury i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wniej: regionalny schemat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kimkolwiek 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3B05-9B6B-426F-A758-2D35149175B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684360" y="1125360"/>
          <a:ext cx="8210160" cy="2778120"/>
        </p:xfrm>
        <a:graphic>
          <a:graphicData uri="http://schemas.openxmlformats.org/drawingml/2006/table">
            <a:tbl>
              <a:tblPr/>
              <a:tblGrid>
                <a:gridCol w="1079280"/>
                <a:gridCol w="1656360"/>
                <a:gridCol w="2548440"/>
                <a:gridCol w="2926080"/>
              </a:tblGrid>
              <a:tr h="2098080">
                <a:tc rowSpan="2"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ształcenie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odow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 i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szkolnych specjalnego przeznaczenia oraz techników mor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kształcenie zawodowego oraz 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edukacyjnych o charakterze specjalnym oraz techników morski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dry technicz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botników i pracowników usługowych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i wdrażanie regionalnej polityki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kształcenia zawodowego młodzieży i dorosły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az już w ramach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muze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erwacja i dowartościowanie archiw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w dziedzinie ogólnej inwentaryzacji dziedzictwa kultur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DDDC-3ADA-4CCE-83FE-AC452CA3D6B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4608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7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Mechanizmy regulacyjne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56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rola przedstawiciela państ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legalnośc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budżeto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sparcie kadrowe w sferze lokalnego systemu podatkoweg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E45F-A2AE-462A-889E-F214463A3E7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47640" y="206064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03280" y="4221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Wyzwania w toczącej się obecnie dyskus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7146-64B3-4A11-B940-836BACEC88B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1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roces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francuskiej 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napoleonki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53840" y="1988640"/>
            <a:ext cx="6589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brak jasności, jeśli chodzi o odpowiedzialność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potrzeba zmian lokalnego systemu podatkoweg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reforma karty gminne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znaczenie opłat obowiązkowych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4DD6-1B48-46F0-A2B7-44CC5447331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3534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Ogólny przegląd polityk publicznych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 :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kontekst sprzyjający reformie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« 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Jeden szczebel 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iższe podatk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 » 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ielość scenarius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ączenie szczebl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owy podział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à la car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ścisły rozdział kompetencj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iec krzyżowych form finansowan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6324480" y="647712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47712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2852-7FF5-4877-9522-C1FCE18724FD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2920" y="1413000"/>
            <a:ext cx="74898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Odniesienia konstytucyjne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. 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rancja jest Republiką niepodziel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aick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emokratyczną i społecz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pewnia wszystkim obywatelom równość wobec prawa bez względu na pochodzenie, rasę czy religię. Szanuje wszystkie wyznani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rganizacja kraju ma charakter zdecentralizowany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 7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kami samorządu terytorialnego Republiki są gminy, departamenty, regiony, społeczności posiadające status szczególny oraz społeczności zamorskie podlegające postanowieniom zawartym w artykul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74. […]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szczególne jednostki samorządu terytorialnego powołane są do tego, aby podejmować decyzje w zakresie wszystkich tych kompetencji, które mogą być najlepiej wdrożone na ich szczeblu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[…]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klauzula kompetencji ogólnych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A27C-5B78-4060-832C-4FFFB821CC8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42920" y="0"/>
            <a:ext cx="7921800" cy="67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Art. 72-2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Jednostki samorządu terytorialnego korzystają z zasobów, którymi mogą dysponować na warunkach ustalonych przez prawo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swoboda zarząd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Mogą one otrzymywać całość lub część przychodów podatkowych wszelkiego rodzaju. Ustawowo mogą uzyskać pozwolenie na ustalanie podstawy wymiaru podatków oraz stopy podatkowej w ustawowo określonych granica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uprawnienia podatkow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Przychody podatkowe oraz pozostałe środki własne jednostek samorządu terytorialnego stanowią, w przypadku każdego rodzaju samorządu, zdecydowaną część całości ich przychodów. Ustawa organiczna ustala warunki wdrażania tej reguł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środki włas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Każdorazowo transferowi kompetencji przez państwo na szczebel samorządow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towarzyszy przydział środków odpowiadający kwotowo tym, które były przeznaczane na ich sprawowanie. Każdorazowemu utworzeniu lub poszerzeniu kompetencji, pociągającemu za sobą wzrost wydatków samorządowych,  towarzyszą ustawowo określane środki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całościowa rekompensata transferów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: CCEC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/KDOT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Ustawa przewiduje system wyrównań mających sprzyjać równości jednostek samorządowy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064360" y="0"/>
            <a:ext cx="1079640" cy="4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F3A0-A98A-4070-B990-15F9F66E571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189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amorządo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truktury Fra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1197000"/>
            <a:ext cx="309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centraliz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amorząd terytorialny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26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region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100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partament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36 783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g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połeczności zamors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koncentr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zedstawiciele państwa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region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departament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odprefekci i zdekoncentrowane służby państwa zorganizowane w ośrod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14720" y="189000"/>
            <a:ext cx="4950000" cy="62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AF8E-71A4-40E6-AA7D-89DFC15A351D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00000" y="62064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Sytuacja we Francji a samorządy lokalne w Euro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42920" y="1773360"/>
          <a:ext cx="7778520" cy="2729880"/>
        </p:xfrm>
        <a:graphic>
          <a:graphicData uri="http://schemas.openxmlformats.org/drawingml/2006/table">
            <a:tbl>
              <a:tblPr/>
              <a:tblGrid>
                <a:gridCol w="1511280"/>
                <a:gridCol w="1658160"/>
                <a:gridCol w="1511640"/>
                <a:gridCol w="1513080"/>
                <a:gridCol w="158436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ranc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emc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jednoczon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ólestw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och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szpan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0,2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,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7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9 0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56 9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44 0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01 2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4 8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ów/państw federal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6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rabst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spólnot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omicz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0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26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81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5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6 679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068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 074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 0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CB6F-4339-4ED6-AFC7-C73D82BA117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2276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. 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Tandem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Decentralizacja/Dekoncentrac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8B20-BDBD-4B5E-845D-56A72266F04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-108000" y="836640"/>
            <a:ext cx="8242200" cy="4584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1916280"/>
            <a:ext cx="25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1628640"/>
            <a:ext cx="35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1F51-75EA-4961-865E-B241A9A3F0E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04:38Z</dcterms:created>
  <dc:creator>Wojciech Gilewski</dc:creator>
  <dc:description/>
  <dc:language>en-US</dc:language>
  <cp:lastModifiedBy>KAS</cp:lastModifiedBy>
  <dcterms:modified xsi:type="dcterms:W3CDTF">2009-02-05T11:39:09Z</dcterms:modified>
  <cp:revision>398</cp:revision>
  <dc:subject>Présentation de la DIACT</dc:subject>
  <dc:title>DIACT, la délégation interministérielle à l’aménagement et à la compétitivité des territoires</dc:title>
</cp:coreProperties>
</file>